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4AED-0866-43B4-B1E0-F37912A23A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BA2F-7EB9-4AEA-900F-B791B1D6C7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B874-B28D-4F74-A12A-EEDD8BA9D7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1B81-BAEA-427F-8C5C-66F806BB7F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F44-ED50-4D84-8A8D-1BF1AC1E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BF6-855E-4649-BEC7-81193D7D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C8B-E847-4A50-9625-ED91D8B6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582-7C10-4E7C-A765-24E9F804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BAD3-3C26-4B62-8519-9A4B8EEF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00F4-0105-4EB5-A8F0-B728958A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B34B-267D-45D3-9F98-117329CF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7632-EBAC-43F7-91F1-3FAC6DF2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D788-78A5-48A9-9C7E-07B770A5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485A-4E05-471F-8927-15624634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CE11-1B9F-404B-909F-CBB0A510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AD6-0646-43D5-B240-D5D870C4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B2E7-141E-4ECC-9AB7-D0F3A915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347B-4B9E-40EC-9E9B-1EA3EC33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07B2-F7BB-4019-9A41-FE3231D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A01C-3F7C-4990-A57C-B2A12FA8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BEA5-BD87-4237-9FE9-718CB143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42E-707C-4DD6-B04B-8EF6A03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CD6-5DF0-4A5B-98CB-0C69954F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B62-A1E8-46F1-AD8C-5083ECD9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D5B-D96F-41B4-8814-79465D75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A0C-E3F0-40A5-80B6-3AB58A45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B20-4210-4FDE-BF09-64698028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359-540E-46BD-B553-42226C89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803A-9F32-441E-ABDE-BEE7DA451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au 6"/>
          <p:cNvGrpSpPr/>
          <p:nvPr/>
        </p:nvGrpSpPr>
        <p:grpSpPr>
          <a:xfrm>
            <a:off x="357120" y="214200"/>
            <a:ext cx="8501040" cy="411120"/>
            <a:chOff x="357120" y="214200"/>
            <a:chExt cx="8501040" cy="411120"/>
          </a:xfrm>
        </p:grpSpPr>
        <p:sp>
          <p:nvSpPr>
            <p:cNvPr id="42" name=""/>
            <p:cNvSpPr/>
            <p:nvPr/>
          </p:nvSpPr>
          <p:spPr>
            <a:xfrm>
              <a:off x="357120" y="214200"/>
              <a:ext cx="591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8080"/>
                  </a:solidFill>
                  <a:latin typeface="Arial"/>
                  <a:ea typeface="Times New Roman"/>
                </a:rPr>
                <a:t>NOM  PLAN STRATÉGIQUE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70480" y="214200"/>
              <a:ext cx="2587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LAN  D’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33D-D731-484D-BFA8-238E82A61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ZoneTexte 3"/>
          <p:cNvGrpSpPr/>
          <p:nvPr/>
        </p:nvGrpSpPr>
        <p:grpSpPr>
          <a:xfrm>
            <a:off x="378000" y="1579680"/>
            <a:ext cx="2498400" cy="534960"/>
            <a:chOff x="378000" y="1579680"/>
            <a:chExt cx="2498400" cy="534960"/>
          </a:xfrm>
        </p:grpSpPr>
        <p:pic>
          <p:nvPicPr>
            <p:cNvPr id="93" name="ZoneTexte 3" descr=""/>
            <p:cNvPicPr/>
            <p:nvPr/>
          </p:nvPicPr>
          <p:blipFill>
            <a:blip r:embed="rId1"/>
            <a:stretch/>
          </p:blipFill>
          <p:spPr>
            <a:xfrm>
              <a:off x="378000" y="1579680"/>
              <a:ext cx="24984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1560" y="164304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Objectifs génér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Diagramme 4" descr=""/>
          <p:cNvPicPr/>
          <p:nvPr/>
        </p:nvPicPr>
        <p:blipFill>
          <a:blip r:embed="rId2"/>
          <a:stretch/>
        </p:blipFill>
        <p:spPr>
          <a:xfrm>
            <a:off x="281160" y="1322280"/>
            <a:ext cx="8229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ZoneTexte 3"/>
          <p:cNvGrpSpPr/>
          <p:nvPr/>
        </p:nvGrpSpPr>
        <p:grpSpPr>
          <a:xfrm>
            <a:off x="450720" y="1006560"/>
            <a:ext cx="1768680" cy="536400"/>
            <a:chOff x="450720" y="1006560"/>
            <a:chExt cx="1768680" cy="536400"/>
          </a:xfrm>
        </p:grpSpPr>
        <p:pic>
          <p:nvPicPr>
            <p:cNvPr id="97" name="ZoneTexte 3" descr=""/>
            <p:cNvPicPr/>
            <p:nvPr/>
          </p:nvPicPr>
          <p:blipFill>
            <a:blip r:embed="rId1"/>
            <a:stretch/>
          </p:blipFill>
          <p:spPr>
            <a:xfrm>
              <a:off x="450720" y="1006560"/>
              <a:ext cx="1768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0680" y="1071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Théma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Diagramme 4" descr=""/>
          <p:cNvPicPr/>
          <p:nvPr/>
        </p:nvPicPr>
        <p:blipFill>
          <a:blip r:embed="rId2"/>
          <a:stretch/>
        </p:blipFill>
        <p:spPr>
          <a:xfrm>
            <a:off x="493560" y="1395360"/>
            <a:ext cx="8296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ZoneTexte 3"/>
          <p:cNvGrpSpPr/>
          <p:nvPr/>
        </p:nvGrpSpPr>
        <p:grpSpPr>
          <a:xfrm>
            <a:off x="311040" y="1079640"/>
            <a:ext cx="2816280" cy="536400"/>
            <a:chOff x="311040" y="1079640"/>
            <a:chExt cx="2816280" cy="536400"/>
          </a:xfrm>
        </p:grpSpPr>
        <p:pic>
          <p:nvPicPr>
            <p:cNvPr id="101" name="ZoneTexte 3" descr=""/>
            <p:cNvPicPr/>
            <p:nvPr/>
          </p:nvPicPr>
          <p:blipFill>
            <a:blip r:embed="rId1"/>
            <a:stretch/>
          </p:blipFill>
          <p:spPr>
            <a:xfrm>
              <a:off x="311040" y="1079640"/>
              <a:ext cx="281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3880" y="114300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Classement des 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857160" y="2214720"/>
          <a:ext cx="7500960" cy="371448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orité (1-2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00:51Z</dcterms:created>
  <dc:creator>Utilisateur Windows</dc:creator>
  <dc:description/>
  <dc:language>en-US</dc:language>
  <cp:lastModifiedBy>Utilisateur Windows</cp:lastModifiedBy>
  <dcterms:modified xsi:type="dcterms:W3CDTF">2008-11-17T17:07:52Z</dcterms:modified>
  <cp:revision>3</cp:revision>
  <dc:subject/>
  <dc:title>Diapositive 1</dc:title>
</cp:coreProperties>
</file>